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53D-BBE8-4FDB-9C87-3BA7152A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177-DD50-4BEE-92C3-09CEDC8D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D41-196D-4D34-A40B-185E4B87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1C8-6AC4-43AA-9FB4-2ADE812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D1C1-5422-437C-83B7-14CE887B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D0E-51D6-4AE3-BF9A-B5BDAFF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B0FF-3D3C-440B-9643-FCCE1BA9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F13-775B-4251-A001-8D98ED3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59F-9541-4657-9997-B810DD2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86CE-183F-42A8-A495-3C23B3C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F16B-23DE-4EEB-830F-9E2AB392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272-3197-4C9F-80CA-B008AD8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FA6-50EF-4171-B0DD-DBD7D6B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BB60-D38D-4F90-AF9F-083628A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7D3-F7C1-4D3E-98D9-8F362318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7B5E-8619-4458-9299-2EA78D53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BC3-C504-4672-AD9B-61FCA099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722-88A9-4FEC-A2DE-D8BBBF3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161-90A8-4BF7-9A65-87A6A5D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238-3A31-45BE-A348-A7D525A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53D-607D-485D-BAA3-3985823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719-BF22-4676-8D00-E492C9B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99B-7D94-4AFB-8ED9-42FF6ECF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FB2-1D8F-409A-BD97-7AC7B59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F9E2-E8D8-4A02-9A2C-BFD8805C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EE11-D1E6-40CF-86FB-62EDD72EC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seballinstinct.com/2011/07/18/touchem-all-top-mlb-sally-league-pitching-prospects/jesse-biddl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chel Paig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SATCHEL PAIGE"/>
          <p:cNvPicPr/>
          <p:nvPr/>
        </p:nvPicPr>
        <p:blipFill>
          <a:blip r:embed="rId2"/>
          <a:stretch/>
        </p:blipFill>
        <p:spPr>
          <a:xfrm>
            <a:off x="5943600" y="380880"/>
            <a:ext cx="281772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 styl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5268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Davis has a lo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at play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eness in the ability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, Cody and Nick pla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utfie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nd the pitcher stands 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the field most distant from the bat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5800" y="40384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y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ck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of the other players while his team was in the l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unt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89548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itchers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eak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en it comes to bat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ast-developed ski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d-sla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133720" y="35812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d Sox’s starting pitcher had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nd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made him hard to h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ding to the cat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 pitcher moves before throwing the 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8839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ba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practically untouch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rvy pit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edy 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weak point; slight fau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Pj03096340000[1]"/>
          <p:cNvPicPr/>
          <p:nvPr/>
        </p:nvPicPr>
        <p:blipFill>
          <a:blip r:embed="rId1"/>
          <a:stretch/>
        </p:blipFill>
        <p:spPr>
          <a:xfrm>
            <a:off x="228600" y="762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three players in the outfiel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Cj02956620000[1]"/>
          <p:cNvPicPr/>
          <p:nvPr/>
        </p:nvPicPr>
        <p:blipFill>
          <a:blip r:embed="rId1"/>
          <a:stretch/>
        </p:blipFill>
        <p:spPr>
          <a:xfrm>
            <a:off x="2895480" y="5025960"/>
            <a:ext cx="2024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657240" y="24379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itch thrown at high speed with very little cur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343400" y="114300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8" descr="http://baseballinstinct.com/wp-content/uploads/2011/07/Jesse-Bidd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2381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1280" y="1905120"/>
            <a:ext cx="47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ving no like or equ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8" descr="MPj04332110000[1]"/>
          <p:cNvPicPr/>
          <p:nvPr/>
        </p:nvPicPr>
        <p:blipFill>
          <a:blip r:embed="rId1"/>
          <a:stretch/>
        </p:blipFill>
        <p:spPr>
          <a:xfrm>
            <a:off x="4038480" y="3352680"/>
            <a:ext cx="4114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ughing at; making fun of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MCj03792570000[1]"/>
          <p:cNvPicPr/>
          <p:nvPr/>
        </p:nvPicPr>
        <p:blipFill>
          <a:blip r:embed="rId1"/>
          <a:stretch/>
        </p:blipFill>
        <p:spPr>
          <a:xfrm>
            <a:off x="3124080" y="4648320"/>
            <a:ext cx="289584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MCPE06927_0000[1]"/>
          <p:cNvPicPr/>
          <p:nvPr/>
        </p:nvPicPr>
        <p:blipFill>
          <a:blip r:embed="rId2"/>
          <a:stretch/>
        </p:blipFill>
        <p:spPr>
          <a:xfrm>
            <a:off x="6553080" y="4191120"/>
            <a:ext cx="1770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winging movement of the arms while twisting the body just before pitching the ba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http://theredzonereport.com/wp-content/uploads/2009/06/cole_hamels_phillies.jpg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rm belief in yoursel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Cj04258260000[1]"/>
          <p:cNvPicPr/>
          <p:nvPr/>
        </p:nvPicPr>
        <p:blipFill>
          <a:blip r:embed="rId1"/>
          <a:stretch/>
        </p:blipFill>
        <p:spPr>
          <a:xfrm>
            <a:off x="3429000" y="4572000"/>
            <a:ext cx="1835280" cy="169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Cj03966600000[1]"/>
          <p:cNvPicPr/>
          <p:nvPr/>
        </p:nvPicPr>
        <p:blipFill>
          <a:blip r:embed="rId2"/>
          <a:stretch/>
        </p:blipFill>
        <p:spPr>
          <a:xfrm>
            <a:off x="6324480" y="44956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30T14:10:01Z</dcterms:modified>
  <cp:revision>23</cp:revision>
  <dc:subject/>
  <dc:title>Frindle Vocabulary Words</dc:title>
</cp:coreProperties>
</file>